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400E-CA5B-4A39-8452-6BF329F2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999320"/>
            <a:ext cx="7769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BA06-E91B-4370-82EA-8AC55823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999320"/>
            <a:ext cx="3791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999320"/>
            <a:ext cx="3791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20F3-D8DB-45DC-A306-C478E0DC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999320"/>
            <a:ext cx="25012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999320"/>
            <a:ext cx="25012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999320"/>
            <a:ext cx="25012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65EF-03E8-45B3-A9C8-8CA88A1B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57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B91-A870-438E-A46B-74608D6A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577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383A-0379-4277-8B28-E97DA985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577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577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84EF-E9F3-4D5F-80D0-250A2B1B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142-10E9-4EDF-A905-761273D1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680"/>
            <a:ext cx="7769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E58-CE6B-470F-9517-0DC6B59B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577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999320"/>
            <a:ext cx="3791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16A3-B76A-43FC-B3D6-69DE543C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577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999320"/>
            <a:ext cx="3791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0EEC-FA46-4D66-8B16-98BCAA9A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999320"/>
            <a:ext cx="7769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72DD-09C0-455B-AAA0-75FB6DD9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680"/>
            <a:ext cx="7769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577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2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O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FEFC2-CC56-4538-95D8-A0979ECCCCD8}" type="slidenum">
              <a:rPr b="0" lang="es-CO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iagramas Caus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6095880"/>
            <a:ext cx="77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Información tomada del libro de Sterman, 2000. y del curso de dinámica de sistemas de la Universidad Nacional de Colombia Sede Medell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. DETERMINAR POLARIDAD DEL CIC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Vía Rápid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e el número de Vínculos Neg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Vía Correc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astrear el efecto de un cambio pequeño en una de las variables a medida que se propaga en el cic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5219640"/>
            <a:ext cx="5191200" cy="16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. DETERMINAR POLARIDAD DEL CIC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No debe haber Polaridades Ambigu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3514680"/>
            <a:ext cx="3809880" cy="2409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81040" y="5832360"/>
            <a:ext cx="79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iste más de una relación causal entre las variables conec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581280" y="762120"/>
            <a:ext cx="3610080" cy="3238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5800" y="-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685800"/>
            <a:ext cx="815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0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. DAR NOMBRE A LOS CIC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00400" y="1066680"/>
            <a:ext cx="3971880" cy="3981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-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685800"/>
            <a:ext cx="815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0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. DAR NOMBRE A LOS CIC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400720" cy="492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5800" y="-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685800"/>
            <a:ext cx="815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0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. DAR NOMBRE A LOS CIC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295280" y="990720"/>
          <a:ext cx="6229440" cy="54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622944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-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85800"/>
            <a:ext cx="815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0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. DAR NOMBRE A LOS CIC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. DAR NOMBRE A LOS CIC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5360" y="5118120"/>
            <a:ext cx="299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R1: Explo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R2: Muy cansado para pens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B1: Midnight o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B2: Ata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B3: Control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B4: El perro se comió mi t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67800" cy="474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. INDICAR LOS RETARDOS IMPOR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retardos crean dinámica: inercia, oscilaciones, distancian las causas de los ef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3922560"/>
            <a:ext cx="3200400" cy="1668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29200" y="3886200"/>
            <a:ext cx="3276720" cy="159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38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. NOMBRE DE LAS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nombres de las variables deben ser los 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acciones (VERBOS) son capturados por los vínculos entre las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diagrama causal captura la ESTRUCTURA, no el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57320" y="5210280"/>
            <a:ext cx="679140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. NOMBRE DE LAS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nombres de las variables deben tener un sentido claro de di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9200" y="3422520"/>
            <a:ext cx="8296200" cy="213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iagramas Caus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153640" cy="39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tenden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pturar hipótesis acerca de las causas de la diná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icitar y capturar los modelos m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unicar realimentaciones relevantes de un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. NOMBRE DE LAS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oger variables cuyo sentido normal de dirección es posi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66880" y="3359160"/>
            <a:ext cx="7743600" cy="34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15364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7. CLAVES DE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ar líneas curvas para la realimentación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iclos importantes deben verse como óvalos o cír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rganizar los diagramas para evitar que se crucen flec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colocar círculos, rectángulos o figuras alrededor de las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terar, Redibu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dur="indefinite" fill="hold">
                      <p:stCondLst>
                        <p:cond delay="indefinite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dur="indefinite" fill="hold">
                      <p:stCondLst>
                        <p:cond delay="indefinite"/>
                      </p:stCondLst>
                      <p:childTnLst>
                        <p:par>
                          <p:cTn id="2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8. ESCOGER EL NIVEL ADECUAD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diagramas causales deben comunicar la estructura central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son tan detallados como lo son las ecu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cho detall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fu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co detall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No muestra la 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uál es el nivel adecuado de detal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dur="indefinite" fill="hold">
                      <p:stCondLst>
                        <p:cond delay="indefinite"/>
                      </p:stCondLst>
                      <p:childTnLst>
                        <p:par>
                          <p:cTn id="3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dur="indefinite" fill="hold">
                      <p:stCondLst>
                        <p:cond delay="indefinite"/>
                      </p:stCondLst>
                      <p:childTnLst>
                        <p:par>
                          <p:cTn id="3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dur="indefinite" fill="hold">
                      <p:stCondLst>
                        <p:cond delay="indefinite"/>
                      </p:stCondLst>
                      <p:childTnLst>
                        <p:par>
                          <p:cTn id="3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dur="indefinite" fill="hold">
                      <p:stCondLst>
                        <p:cond delay="indefinite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dur="indefinite" fill="hold">
                      <p:stCondLst>
                        <p:cond delay="indefinite"/>
                      </p:stCondLst>
                      <p:childTnLst>
                        <p:par>
                          <p:cTn id="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0" r="0" b="56854"/>
          <a:stretch/>
        </p:blipFill>
        <p:spPr>
          <a:xfrm>
            <a:off x="-457200" y="1371600"/>
            <a:ext cx="10134720" cy="2590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3733920"/>
            <a:ext cx="9144000" cy="3124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46696" r="0" b="0"/>
          <a:stretch/>
        </p:blipFill>
        <p:spPr>
          <a:xfrm>
            <a:off x="-152280" y="3657600"/>
            <a:ext cx="1013436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dur="indefinite" fill="hold">
                      <p:stCondLst>
                        <p:cond delay="indefinite"/>
                      </p:stCondLst>
                      <p:childTnLst>
                        <p:par>
                          <p:cTn id="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dur="indefinite" fill="hold">
                      <p:stCondLst>
                        <p:cond delay="indefinite"/>
                      </p:stCondLst>
                      <p:childTnLst>
                        <p:par>
                          <p:cTn id="3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9. NO COLOCAR TODOS LOS CICLOS EN UN SOLO DIAGRAMA GRANDE !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diagramas gran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53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permiten ver los cic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53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ender cuáles son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1160" indent="-453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ender cómo se genera la diná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rven sólo para impresionar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ólo los entienden quienes los construyen, no quien los necesi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dur="indefinite" fill="hold">
                      <p:stCondLst>
                        <p:cond delay="indefinite"/>
                      </p:stCondLst>
                      <p:childTnLst>
                        <p:par>
                          <p:cTn id="3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dur="indefinite" fill="hold">
                      <p:stCondLst>
                        <p:cond delay="indefinite"/>
                      </p:stCondLst>
                      <p:childTnLst>
                        <p:par>
                          <p:cTn id="3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dur="indefinite" fill="hold">
                      <p:stCondLst>
                        <p:cond delay="indefinite"/>
                      </p:stCondLst>
                      <p:childTnLst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dur="indefinite" fill="hold">
                      <p:stCondLst>
                        <p:cond delay="indefinite"/>
                      </p:stCondLst>
                      <p:childTnLst>
                        <p:par>
                          <p:cTn id="3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0. HACER EXPLÍCITAS LAS METAS DE LOS CICLOS NEG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dos los ciclos negativos tienen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m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tas = Estado desead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iclos negativos comparan el estado actual con la meta, y tratan de corregir la discrep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dur="indefinite" fill="hold">
                      <p:stCondLst>
                        <p:cond delay="indefinite"/>
                      </p:stCondLst>
                      <p:childTnLst>
                        <p:par>
                          <p:cTn id="3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dur="indefinite" fill="hold">
                      <p:stCondLst>
                        <p:cond delay="indefinite"/>
                      </p:stCondLst>
                      <p:childTnLst>
                        <p:par>
                          <p:cTn id="4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dur="indefinite" fill="hold">
                      <p:stCondLst>
                        <p:cond delay="indefinite"/>
                      </p:stCondLst>
                      <p:childTnLst>
                        <p:par>
                          <p:cTn id="4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dur="indefinite" fill="hold">
                      <p:stCondLst>
                        <p:cond delay="indefinite"/>
                      </p:stCondLst>
                      <p:childTnLst>
                        <p:par>
                          <p:cTn id="4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543720" cy="3171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6905880" cy="283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dur="indefinite" fill="hold">
                      <p:stCondLst>
                        <p:cond delay="indefinite"/>
                      </p:stCondLst>
                      <p:childTnLst>
                        <p:par>
                          <p:cTn id="4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dur="indefinite" fill="hold">
                      <p:stCondLst>
                        <p:cond delay="indefinite"/>
                      </p:stCondLst>
                      <p:childTnLst>
                        <p:par>
                          <p:cTn id="4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1. DISTINGUIR ENTRE CONDICIONES ACTUALES Y PERCIB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 diferencias entre el estado verdadero de las cosas y lo que los agentes perciben de ese estad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0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uido, errores de medición, sesgos, distor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19320" y="4343400"/>
            <a:ext cx="3524040" cy="2514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643720" y="4800600"/>
            <a:ext cx="229896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ándo se de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ál es la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l produc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dur="indefinite" fill="hold">
                      <p:stCondLst>
                        <p:cond delay="indefinite"/>
                      </p:stCondLst>
                      <p:childTnLst>
                        <p:par>
                          <p:cTn id="4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dur="indefinite" fill="hold">
                      <p:stCondLst>
                        <p:cond delay="indefinite"/>
                      </p:stCondLst>
                      <p:childTnLst>
                        <p:par>
                          <p:cTn id="4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dur="indefinite" fill="hold">
                      <p:stCondLst>
                        <p:cond delay="indefinite"/>
                      </p:stCondLst>
                      <p:childTnLst>
                        <p:par>
                          <p:cTn id="4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dur="indefinite" fill="hold">
                      <p:stCondLst>
                        <p:cond delay="indefinite"/>
                      </p:stCondLst>
                      <p:childTnLst>
                        <p:par>
                          <p:cTn id="4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dur="indefinite" fill="hold">
                      <p:stCondLst>
                        <p:cond delay="indefinite"/>
                      </p:stCondLst>
                      <p:childTnLst>
                        <p:par>
                          <p:cTn id="4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19320" y="1501920"/>
            <a:ext cx="7010280" cy="45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namien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3520"/>
                <a:tab algn="l" pos="63828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alice un diagrama causal que muestre la dinámica de la población en una localidad considerando políticas de inmi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iste de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conectadas por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flech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que denotan las influencias causales sobre las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ben contener los ciclos de realimentación princip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3251160"/>
            <a:ext cx="7086600" cy="31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7238880" cy="1922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29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255160" cy="51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Vínculo Posi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la caus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cremen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l efect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cremen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por encima de lo que podría haber ocurrido en otro c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la caus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crec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l efect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crec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por debajo de lo que podría haber ocurrido en otro c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Vínculo Nega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la caus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cremen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l efect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crec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por debajo de lo que podría haber ocurrido en otro c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la caus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crec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el efect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cremen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por encima de lo que podría haber ocurrido en otro c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USA vs. CORR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correlaciones expresan el comportamiento pasado de la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correlaciones no representan la estructura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diagramas deben incluir solo las relaciones que capturan la estructura interna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correlaciones deben surgir del comportamiento del modelo cuando se si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3886200" cy="226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4648320" y="1901880"/>
          <a:ext cx="3809880" cy="307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901880"/>
                    <a:ext cx="380988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Guías para diagramas Caus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INIR LA POLARIDAD DEL VÍNC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352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76520" y="1951200"/>
            <a:ext cx="6172200" cy="2469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752480" y="4295880"/>
            <a:ext cx="6248520" cy="25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2T21:37:06Z</dcterms:created>
  <dc:creator>Gloria E.</dc:creator>
  <dc:description/>
  <dc:language>en-US</dc:language>
  <cp:lastModifiedBy>personal</cp:lastModifiedBy>
  <dcterms:modified xsi:type="dcterms:W3CDTF">2007-03-28T02:29:07Z</dcterms:modified>
  <cp:revision>102</cp:revision>
  <dc:subject/>
  <dc:title>Retardos</dc:title>
</cp:coreProperties>
</file>